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F28C-32BC-4D0E-9902-86567BED8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DA31-0D2F-4E37-AAF4-338B934A2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462D-B19E-4EBB-8048-1CCB56C94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5DB7-EB98-4F94-AFE8-0768E9342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D204-17B8-458D-814F-EFB0F92C9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5BB3-2F2C-470A-A087-71CE7FBDB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F495-24AD-41BB-ABC3-E4BB6DE08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052D-BBC1-4EC3-97F1-456457399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78C8-D495-43FF-91D8-49DC3DE8C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FF6F-56DA-4A34-AB28-0DAC6033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E4C2-05AF-46A5-BC51-60B0D23B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1697-CD1A-47C0-A35F-3228F02C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F833B-2D46-4A78-9627-FCEAF607FF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33"/>
          <p:cNvGrpSpPr/>
          <p:nvPr/>
        </p:nvGrpSpPr>
        <p:grpSpPr>
          <a:xfrm>
            <a:off x="2590920" y="1293840"/>
            <a:ext cx="3765600" cy="3963960"/>
            <a:chOff x="2590920" y="1293840"/>
            <a:chExt cx="3765600" cy="3963960"/>
          </a:xfrm>
        </p:grpSpPr>
        <p:grpSp>
          <p:nvGrpSpPr>
            <p:cNvPr id="42" name="Group 74"/>
            <p:cNvGrpSpPr/>
            <p:nvPr/>
          </p:nvGrpSpPr>
          <p:grpSpPr>
            <a:xfrm>
              <a:off x="2590920" y="1757160"/>
              <a:ext cx="2643840" cy="2129040"/>
              <a:chOff x="2590920" y="1757160"/>
              <a:chExt cx="2643840" cy="2129040"/>
            </a:xfrm>
          </p:grpSpPr>
          <p:sp>
            <p:nvSpPr>
              <p:cNvPr id="43" name="Freeform 75"/>
              <p:cNvSpPr/>
              <p:nvPr/>
            </p:nvSpPr>
            <p:spPr>
              <a:xfrm rot="200400">
                <a:off x="2666520" y="1828440"/>
                <a:ext cx="2514600" cy="1905120"/>
              </a:xfrm>
              <a:custGeom>
                <a:avLst/>
                <a:gdLst>
                  <a:gd name="textAreaLeft" fmla="*/ 0 w 2514600"/>
                  <a:gd name="textAreaRight" fmla="*/ 2514960 w 2514600"/>
                  <a:gd name="textAreaTop" fmla="*/ 0 h 1905120"/>
                  <a:gd name="textAreaBottom" fmla="*/ 1905480 h 1905120"/>
                </a:gdLst>
                <a:ahLst/>
                <a:rect l="textAreaLeft" t="textAreaTop" r="textAreaRight" b="textAreaBottom"/>
                <a:pathLst>
                  <a:path w="1584" h="1200">
                    <a:moveTo>
                      <a:pt x="1488" y="768"/>
                    </a:moveTo>
                    <a:lnTo>
                      <a:pt x="1584" y="480"/>
                    </a:lnTo>
                    <a:lnTo>
                      <a:pt x="720" y="0"/>
                    </a:lnTo>
                    <a:lnTo>
                      <a:pt x="240" y="48"/>
                    </a:lnTo>
                    <a:lnTo>
                      <a:pt x="48" y="288"/>
                    </a:lnTo>
                    <a:lnTo>
                      <a:pt x="0" y="816"/>
                    </a:lnTo>
                    <a:lnTo>
                      <a:pt x="240" y="1104"/>
                    </a:lnTo>
                    <a:lnTo>
                      <a:pt x="624" y="1200"/>
                    </a:lnTo>
                    <a:lnTo>
                      <a:pt x="1488" y="76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76"/>
              <p:cNvSpPr/>
              <p:nvPr/>
            </p:nvSpPr>
            <p:spPr>
              <a:xfrm>
                <a:off x="2590920" y="1981440"/>
                <a:ext cx="2590560" cy="1904760"/>
              </a:xfrm>
              <a:custGeom>
                <a:avLst/>
                <a:gdLst>
                  <a:gd name="textAreaLeft" fmla="*/ 0 w 2590560"/>
                  <a:gd name="textAreaRight" fmla="*/ 2590920 w 2590560"/>
                  <a:gd name="textAreaTop" fmla="*/ 0 h 1904760"/>
                  <a:gd name="textAreaBottom" fmla="*/ 1905120 h 1904760"/>
                </a:gdLst>
                <a:ahLst/>
                <a:rect l="textAreaLeft" t="textAreaTop" r="textAreaRight" b="textAreaBottom"/>
                <a:pathLst>
                  <a:path w="1584" h="1200">
                    <a:moveTo>
                      <a:pt x="1488" y="768"/>
                    </a:moveTo>
                    <a:lnTo>
                      <a:pt x="1584" y="480"/>
                    </a:lnTo>
                    <a:lnTo>
                      <a:pt x="720" y="0"/>
                    </a:lnTo>
                    <a:lnTo>
                      <a:pt x="240" y="48"/>
                    </a:lnTo>
                    <a:lnTo>
                      <a:pt x="48" y="288"/>
                    </a:lnTo>
                    <a:lnTo>
                      <a:pt x="0" y="816"/>
                    </a:lnTo>
                    <a:lnTo>
                      <a:pt x="240" y="1104"/>
                    </a:lnTo>
                    <a:lnTo>
                      <a:pt x="624" y="1200"/>
                    </a:lnTo>
                    <a:lnTo>
                      <a:pt x="1488" y="76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Group 79"/>
            <p:cNvGrpSpPr/>
            <p:nvPr/>
          </p:nvGrpSpPr>
          <p:grpSpPr>
            <a:xfrm>
              <a:off x="5181480" y="1981080"/>
              <a:ext cx="533520" cy="609480"/>
              <a:chOff x="5181480" y="1981080"/>
              <a:chExt cx="533520" cy="609480"/>
            </a:xfrm>
          </p:grpSpPr>
          <p:sp>
            <p:nvSpPr>
              <p:cNvPr id="46" name="Oval 80"/>
              <p:cNvSpPr/>
              <p:nvPr/>
            </p:nvSpPr>
            <p:spPr>
              <a:xfrm>
                <a:off x="5181480" y="1981080"/>
                <a:ext cx="533520" cy="609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81"/>
              <p:cNvSpPr/>
              <p:nvPr/>
            </p:nvSpPr>
            <p:spPr>
              <a:xfrm>
                <a:off x="5305320" y="2057040"/>
                <a:ext cx="152280" cy="152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Oval 84"/>
            <p:cNvSpPr/>
            <p:nvPr/>
          </p:nvSpPr>
          <p:spPr>
            <a:xfrm>
              <a:off x="5029200" y="2590920"/>
              <a:ext cx="762120" cy="914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88"/>
            <p:cNvSpPr/>
            <p:nvPr/>
          </p:nvSpPr>
          <p:spPr>
            <a:xfrm>
              <a:off x="5124600" y="3429000"/>
              <a:ext cx="609480" cy="152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Group 105"/>
            <p:cNvGrpSpPr/>
            <p:nvPr/>
          </p:nvGrpSpPr>
          <p:grpSpPr>
            <a:xfrm>
              <a:off x="3429000" y="3200400"/>
              <a:ext cx="1752480" cy="2057400"/>
              <a:chOff x="3429000" y="3200400"/>
              <a:chExt cx="1752480" cy="2057400"/>
            </a:xfrm>
          </p:grpSpPr>
          <p:sp>
            <p:nvSpPr>
              <p:cNvPr id="51" name="Freeform 106"/>
              <p:cNvSpPr/>
              <p:nvPr/>
            </p:nvSpPr>
            <p:spPr>
              <a:xfrm>
                <a:off x="3429000" y="3276360"/>
                <a:ext cx="1676520" cy="1981440"/>
              </a:xfrm>
              <a:custGeom>
                <a:avLst/>
                <a:gdLst>
                  <a:gd name="textAreaLeft" fmla="*/ 0 w 1676520"/>
                  <a:gd name="textAreaRight" fmla="*/ 1676880 w 1676520"/>
                  <a:gd name="textAreaTop" fmla="*/ 0 h 1981440"/>
                  <a:gd name="textAreaBottom" fmla="*/ 1981800 h 1981440"/>
                </a:gdLst>
                <a:ahLst/>
                <a:rect l="textAreaLeft" t="textAreaTop" r="textAreaRight" b="textAreaBottom"/>
                <a:pathLst>
                  <a:path w="1056" h="1248">
                    <a:moveTo>
                      <a:pt x="960" y="0"/>
                    </a:moveTo>
                    <a:lnTo>
                      <a:pt x="48" y="432"/>
                    </a:lnTo>
                    <a:lnTo>
                      <a:pt x="0" y="720"/>
                    </a:lnTo>
                    <a:lnTo>
                      <a:pt x="96" y="1152"/>
                    </a:lnTo>
                    <a:lnTo>
                      <a:pt x="480" y="1248"/>
                    </a:lnTo>
                    <a:lnTo>
                      <a:pt x="960" y="960"/>
                    </a:lnTo>
                    <a:lnTo>
                      <a:pt x="1056" y="144"/>
                    </a:lnTo>
                    <a:lnTo>
                      <a:pt x="96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07"/>
              <p:cNvSpPr/>
              <p:nvPr/>
            </p:nvSpPr>
            <p:spPr>
              <a:xfrm>
                <a:off x="3505320" y="3200400"/>
                <a:ext cx="1676160" cy="1981080"/>
              </a:xfrm>
              <a:custGeom>
                <a:avLst/>
                <a:gdLst>
                  <a:gd name="textAreaLeft" fmla="*/ 0 w 1676160"/>
                  <a:gd name="textAreaRight" fmla="*/ 1676520 w 1676160"/>
                  <a:gd name="textAreaTop" fmla="*/ 0 h 1981080"/>
                  <a:gd name="textAreaBottom" fmla="*/ 1981440 h 1981080"/>
                </a:gdLst>
                <a:ahLst/>
                <a:rect l="textAreaLeft" t="textAreaTop" r="textAreaRight" b="textAreaBottom"/>
                <a:pathLst>
                  <a:path w="1056" h="1248">
                    <a:moveTo>
                      <a:pt x="960" y="0"/>
                    </a:moveTo>
                    <a:lnTo>
                      <a:pt x="48" y="432"/>
                    </a:lnTo>
                    <a:lnTo>
                      <a:pt x="0" y="720"/>
                    </a:lnTo>
                    <a:lnTo>
                      <a:pt x="96" y="1152"/>
                    </a:lnTo>
                    <a:lnTo>
                      <a:pt x="480" y="1248"/>
                    </a:lnTo>
                    <a:lnTo>
                      <a:pt x="960" y="960"/>
                    </a:lnTo>
                    <a:lnTo>
                      <a:pt x="1056" y="144"/>
                    </a:lnTo>
                    <a:lnTo>
                      <a:pt x="96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Freeform 110"/>
            <p:cNvSpPr/>
            <p:nvPr/>
          </p:nvSpPr>
          <p:spPr>
            <a:xfrm>
              <a:off x="5715000" y="2057400"/>
              <a:ext cx="469800" cy="287280"/>
            </a:xfrm>
            <a:custGeom>
              <a:avLst/>
              <a:gdLst>
                <a:gd name="textAreaLeft" fmla="*/ 0 w 469800"/>
                <a:gd name="textAreaRight" fmla="*/ 470160 w 4698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96" h="181">
                  <a:moveTo>
                    <a:pt x="0" y="89"/>
                  </a:moveTo>
                  <a:cubicBezTo>
                    <a:pt x="22" y="56"/>
                    <a:pt x="34" y="56"/>
                    <a:pt x="71" y="45"/>
                  </a:cubicBezTo>
                  <a:cubicBezTo>
                    <a:pt x="112" y="17"/>
                    <a:pt x="87" y="30"/>
                    <a:pt x="150" y="9"/>
                  </a:cubicBezTo>
                  <a:cubicBezTo>
                    <a:pt x="159" y="6"/>
                    <a:pt x="177" y="0"/>
                    <a:pt x="177" y="0"/>
                  </a:cubicBezTo>
                  <a:cubicBezTo>
                    <a:pt x="201" y="3"/>
                    <a:pt x="226" y="0"/>
                    <a:pt x="248" y="9"/>
                  </a:cubicBezTo>
                  <a:cubicBezTo>
                    <a:pt x="296" y="28"/>
                    <a:pt x="279" y="145"/>
                    <a:pt x="230" y="178"/>
                  </a:cubicBezTo>
                  <a:cubicBezTo>
                    <a:pt x="154" y="170"/>
                    <a:pt x="135" y="181"/>
                    <a:pt x="97" y="124"/>
                  </a:cubicBezTo>
                  <a:cubicBezTo>
                    <a:pt x="114" y="58"/>
                    <a:pt x="136" y="80"/>
                    <a:pt x="204" y="89"/>
                  </a:cubicBezTo>
                  <a:cubicBezTo>
                    <a:pt x="201" y="104"/>
                    <a:pt x="208" y="125"/>
                    <a:pt x="195" y="133"/>
                  </a:cubicBezTo>
                  <a:cubicBezTo>
                    <a:pt x="182" y="141"/>
                    <a:pt x="159" y="137"/>
                    <a:pt x="150" y="124"/>
                  </a:cubicBezTo>
                  <a:cubicBezTo>
                    <a:pt x="144" y="115"/>
                    <a:pt x="177" y="107"/>
                    <a:pt x="177" y="107"/>
                  </a:cubicBezTo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113"/>
            <p:cNvGrpSpPr/>
            <p:nvPr/>
          </p:nvGrpSpPr>
          <p:grpSpPr>
            <a:xfrm>
              <a:off x="5334120" y="1293840"/>
              <a:ext cx="1022400" cy="677880"/>
              <a:chOff x="5334120" y="1293840"/>
              <a:chExt cx="1022400" cy="677880"/>
            </a:xfrm>
          </p:grpSpPr>
          <p:grpSp>
            <p:nvGrpSpPr>
              <p:cNvPr id="55" name="Group 114"/>
              <p:cNvGrpSpPr/>
              <p:nvPr/>
            </p:nvGrpSpPr>
            <p:grpSpPr>
              <a:xfrm>
                <a:off x="5334120" y="1293840"/>
                <a:ext cx="797040" cy="677880"/>
                <a:chOff x="5334120" y="1293840"/>
                <a:chExt cx="797040" cy="677880"/>
              </a:xfrm>
            </p:grpSpPr>
            <p:sp>
              <p:nvSpPr>
                <p:cNvPr id="56" name="Freeform 115"/>
                <p:cNvSpPr/>
                <p:nvPr/>
              </p:nvSpPr>
              <p:spPr>
                <a:xfrm>
                  <a:off x="5334120" y="1325520"/>
                  <a:ext cx="746280" cy="646200"/>
                </a:xfrm>
                <a:custGeom>
                  <a:avLst/>
                  <a:gdLst>
                    <a:gd name="textAreaLeft" fmla="*/ 0 w 746280"/>
                    <a:gd name="textAreaRight" fmla="*/ 746640 w 746280"/>
                    <a:gd name="textAreaTop" fmla="*/ 0 h 646200"/>
                    <a:gd name="textAreaBottom" fmla="*/ 646560 h 646200"/>
                  </a:gdLst>
                  <a:ahLst/>
                  <a:rect l="textAreaLeft" t="textAreaTop" r="textAreaRight" b="textAreaBottom"/>
                  <a:pathLst>
                    <a:path w="470" h="407">
                      <a:moveTo>
                        <a:pt x="0" y="407"/>
                      </a:moveTo>
                      <a:cubicBezTo>
                        <a:pt x="6" y="342"/>
                        <a:pt x="12" y="277"/>
                        <a:pt x="18" y="212"/>
                      </a:cubicBezTo>
                      <a:cubicBezTo>
                        <a:pt x="20" y="185"/>
                        <a:pt x="82" y="155"/>
                        <a:pt x="89" y="150"/>
                      </a:cubicBezTo>
                      <a:cubicBezTo>
                        <a:pt x="143" y="114"/>
                        <a:pt x="195" y="89"/>
                        <a:pt x="257" y="71"/>
                      </a:cubicBezTo>
                      <a:cubicBezTo>
                        <a:pt x="294" y="46"/>
                        <a:pt x="345" y="25"/>
                        <a:pt x="390" y="17"/>
                      </a:cubicBezTo>
                      <a:cubicBezTo>
                        <a:pt x="408" y="14"/>
                        <a:pt x="425" y="12"/>
                        <a:pt x="443" y="8"/>
                      </a:cubicBezTo>
                      <a:cubicBezTo>
                        <a:pt x="452" y="6"/>
                        <a:pt x="470" y="0"/>
                        <a:pt x="470" y="0"/>
                      </a:cubicBez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Oval 116"/>
                <p:cNvSpPr/>
                <p:nvPr/>
              </p:nvSpPr>
              <p:spPr>
                <a:xfrm>
                  <a:off x="5978880" y="1293840"/>
                  <a:ext cx="15228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" name="Group 117"/>
              <p:cNvGrpSpPr/>
              <p:nvPr/>
            </p:nvGrpSpPr>
            <p:grpSpPr>
              <a:xfrm>
                <a:off x="5457960" y="1517400"/>
                <a:ext cx="898560" cy="426960"/>
                <a:chOff x="5457960" y="1517400"/>
                <a:chExt cx="898560" cy="426960"/>
              </a:xfrm>
            </p:grpSpPr>
            <p:sp>
              <p:nvSpPr>
                <p:cNvPr id="59" name="Freeform 118"/>
                <p:cNvSpPr/>
                <p:nvPr/>
              </p:nvSpPr>
              <p:spPr>
                <a:xfrm>
                  <a:off x="5457960" y="1549080"/>
                  <a:ext cx="801720" cy="39528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395280"/>
                    <a:gd name="textAreaBottom" fmla="*/ 395640 h 395280"/>
                  </a:gdLst>
                  <a:ahLst/>
                  <a:rect l="textAreaLeft" t="textAreaTop" r="textAreaRight" b="textAreaBottom"/>
                  <a:pathLst>
                    <a:path w="505" h="249">
                      <a:moveTo>
                        <a:pt x="0" y="249"/>
                      </a:moveTo>
                      <a:cubicBezTo>
                        <a:pt x="32" y="199"/>
                        <a:pt x="76" y="175"/>
                        <a:pt x="124" y="142"/>
                      </a:cubicBezTo>
                      <a:cubicBezTo>
                        <a:pt x="191" y="96"/>
                        <a:pt x="259" y="62"/>
                        <a:pt x="336" y="36"/>
                      </a:cubicBezTo>
                      <a:cubicBezTo>
                        <a:pt x="365" y="26"/>
                        <a:pt x="395" y="14"/>
                        <a:pt x="425" y="9"/>
                      </a:cubicBezTo>
                      <a:cubicBezTo>
                        <a:pt x="452" y="5"/>
                        <a:pt x="505" y="0"/>
                        <a:pt x="505" y="0"/>
                      </a:cubicBez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Oval 119"/>
                <p:cNvSpPr/>
                <p:nvPr/>
              </p:nvSpPr>
              <p:spPr>
                <a:xfrm>
                  <a:off x="6203880" y="1517400"/>
                  <a:ext cx="15264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" name="Group 122"/>
            <p:cNvGrpSpPr/>
            <p:nvPr/>
          </p:nvGrpSpPr>
          <p:grpSpPr>
            <a:xfrm>
              <a:off x="5715000" y="2666880"/>
              <a:ext cx="572760" cy="703440"/>
              <a:chOff x="5715000" y="2666880"/>
              <a:chExt cx="572760" cy="703440"/>
            </a:xfrm>
          </p:grpSpPr>
          <p:grpSp>
            <p:nvGrpSpPr>
              <p:cNvPr id="62" name="Group 123"/>
              <p:cNvGrpSpPr/>
              <p:nvPr/>
            </p:nvGrpSpPr>
            <p:grpSpPr>
              <a:xfrm>
                <a:off x="5753160" y="2666880"/>
                <a:ext cx="494640" cy="261720"/>
                <a:chOff x="5753160" y="2666880"/>
                <a:chExt cx="494640" cy="261720"/>
              </a:xfrm>
            </p:grpSpPr>
            <p:sp>
              <p:nvSpPr>
                <p:cNvPr id="63" name="Freeform 124"/>
                <p:cNvSpPr/>
                <p:nvPr/>
              </p:nvSpPr>
              <p:spPr>
                <a:xfrm>
                  <a:off x="5784480" y="2666880"/>
                  <a:ext cx="463320" cy="203040"/>
                </a:xfrm>
                <a:custGeom>
                  <a:avLst/>
                  <a:gdLst>
                    <a:gd name="textAreaLeft" fmla="*/ 0 w 463320"/>
                    <a:gd name="textAreaRight" fmla="*/ 463680 w 463320"/>
                    <a:gd name="textAreaTop" fmla="*/ 0 h 203040"/>
                    <a:gd name="textAreaBottom" fmla="*/ 203400 h 203040"/>
                  </a:gdLst>
                  <a:ahLst/>
                  <a:rect l="textAreaLeft" t="textAreaTop" r="textAreaRight" b="textAreaBottom"/>
                  <a:pathLst>
                    <a:path w="292" h="128">
                      <a:moveTo>
                        <a:pt x="0" y="84"/>
                      </a:moveTo>
                      <a:cubicBezTo>
                        <a:pt x="89" y="73"/>
                        <a:pt x="292" y="0"/>
                        <a:pt x="292" y="128"/>
                      </a:cubicBez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Freeform 125"/>
                <p:cNvSpPr/>
                <p:nvPr/>
              </p:nvSpPr>
              <p:spPr>
                <a:xfrm>
                  <a:off x="5753160" y="2725560"/>
                  <a:ext cx="463320" cy="203040"/>
                </a:xfrm>
                <a:custGeom>
                  <a:avLst/>
                  <a:gdLst>
                    <a:gd name="textAreaLeft" fmla="*/ 0 w 463320"/>
                    <a:gd name="textAreaRight" fmla="*/ 463680 w 463320"/>
                    <a:gd name="textAreaTop" fmla="*/ 0 h 203040"/>
                    <a:gd name="textAreaBottom" fmla="*/ 203400 h 203040"/>
                  </a:gdLst>
                  <a:ahLst/>
                  <a:rect l="textAreaLeft" t="textAreaTop" r="textAreaRight" b="textAreaBottom"/>
                  <a:pathLst>
                    <a:path w="292" h="128">
                      <a:moveTo>
                        <a:pt x="0" y="84"/>
                      </a:moveTo>
                      <a:cubicBezTo>
                        <a:pt x="89" y="73"/>
                        <a:pt x="292" y="0"/>
                        <a:pt x="292" y="128"/>
                      </a:cubicBez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" name="Group 126"/>
              <p:cNvGrpSpPr/>
              <p:nvPr/>
            </p:nvGrpSpPr>
            <p:grpSpPr>
              <a:xfrm>
                <a:off x="5748120" y="2881080"/>
                <a:ext cx="539640" cy="253800"/>
                <a:chOff x="5748120" y="2881080"/>
                <a:chExt cx="539640" cy="253800"/>
              </a:xfrm>
            </p:grpSpPr>
            <p:sp>
              <p:nvSpPr>
                <p:cNvPr id="66" name="Freeform 127"/>
                <p:cNvSpPr/>
                <p:nvPr/>
              </p:nvSpPr>
              <p:spPr>
                <a:xfrm>
                  <a:off x="5824440" y="2881080"/>
                  <a:ext cx="463320" cy="203040"/>
                </a:xfrm>
                <a:custGeom>
                  <a:avLst/>
                  <a:gdLst>
                    <a:gd name="textAreaLeft" fmla="*/ 0 w 463320"/>
                    <a:gd name="textAreaRight" fmla="*/ 463680 w 463320"/>
                    <a:gd name="textAreaTop" fmla="*/ 0 h 203040"/>
                    <a:gd name="textAreaBottom" fmla="*/ 203400 h 203040"/>
                  </a:gdLst>
                  <a:ahLst/>
                  <a:rect l="textAreaLeft" t="textAreaTop" r="textAreaRight" b="textAreaBottom"/>
                  <a:pathLst>
                    <a:path w="292" h="128">
                      <a:moveTo>
                        <a:pt x="0" y="84"/>
                      </a:moveTo>
                      <a:cubicBezTo>
                        <a:pt x="89" y="73"/>
                        <a:pt x="292" y="0"/>
                        <a:pt x="292" y="128"/>
                      </a:cubicBez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Freeform 128"/>
                <p:cNvSpPr/>
                <p:nvPr/>
              </p:nvSpPr>
              <p:spPr>
                <a:xfrm>
                  <a:off x="5748120" y="2931840"/>
                  <a:ext cx="463680" cy="203040"/>
                </a:xfrm>
                <a:custGeom>
                  <a:avLst/>
                  <a:gdLst>
                    <a:gd name="textAreaLeft" fmla="*/ 0 w 463680"/>
                    <a:gd name="textAreaRight" fmla="*/ 464040 w 463680"/>
                    <a:gd name="textAreaTop" fmla="*/ 0 h 203040"/>
                    <a:gd name="textAreaBottom" fmla="*/ 203400 h 203040"/>
                  </a:gdLst>
                  <a:ahLst/>
                  <a:rect l="textAreaLeft" t="textAreaTop" r="textAreaRight" b="textAreaBottom"/>
                  <a:pathLst>
                    <a:path w="292" h="128">
                      <a:moveTo>
                        <a:pt x="0" y="84"/>
                      </a:moveTo>
                      <a:cubicBezTo>
                        <a:pt x="89" y="73"/>
                        <a:pt x="292" y="0"/>
                        <a:pt x="292" y="128"/>
                      </a:cubicBez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" name="Group 129"/>
              <p:cNvGrpSpPr/>
              <p:nvPr/>
            </p:nvGrpSpPr>
            <p:grpSpPr>
              <a:xfrm>
                <a:off x="5715000" y="3109680"/>
                <a:ext cx="539640" cy="260640"/>
                <a:chOff x="5715000" y="3109680"/>
                <a:chExt cx="539640" cy="260640"/>
              </a:xfrm>
            </p:grpSpPr>
            <p:sp>
              <p:nvSpPr>
                <p:cNvPr id="69" name="Freeform 130"/>
                <p:cNvSpPr/>
                <p:nvPr/>
              </p:nvSpPr>
              <p:spPr>
                <a:xfrm>
                  <a:off x="5790960" y="3109680"/>
                  <a:ext cx="463680" cy="203400"/>
                </a:xfrm>
                <a:custGeom>
                  <a:avLst/>
                  <a:gdLst>
                    <a:gd name="textAreaLeft" fmla="*/ 0 w 463680"/>
                    <a:gd name="textAreaRight" fmla="*/ 464040 w 463680"/>
                    <a:gd name="textAreaTop" fmla="*/ 0 h 203400"/>
                    <a:gd name="textAreaBottom" fmla="*/ 203760 h 203400"/>
                  </a:gdLst>
                  <a:ahLst/>
                  <a:rect l="textAreaLeft" t="textAreaTop" r="textAreaRight" b="textAreaBottom"/>
                  <a:pathLst>
                    <a:path w="292" h="128">
                      <a:moveTo>
                        <a:pt x="0" y="84"/>
                      </a:moveTo>
                      <a:cubicBezTo>
                        <a:pt x="89" y="73"/>
                        <a:pt x="292" y="0"/>
                        <a:pt x="292" y="128"/>
                      </a:cubicBez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131"/>
                <p:cNvSpPr/>
                <p:nvPr/>
              </p:nvSpPr>
              <p:spPr>
                <a:xfrm>
                  <a:off x="5715000" y="3166920"/>
                  <a:ext cx="463320" cy="203400"/>
                </a:xfrm>
                <a:custGeom>
                  <a:avLst/>
                  <a:gdLst>
                    <a:gd name="textAreaLeft" fmla="*/ 0 w 463320"/>
                    <a:gd name="textAreaRight" fmla="*/ 463680 w 463320"/>
                    <a:gd name="textAreaTop" fmla="*/ 0 h 203400"/>
                    <a:gd name="textAreaBottom" fmla="*/ 203760 h 203400"/>
                  </a:gdLst>
                  <a:ahLst/>
                  <a:rect l="textAreaLeft" t="textAreaTop" r="textAreaRight" b="textAreaBottom"/>
                  <a:pathLst>
                    <a:path w="292" h="128">
                      <a:moveTo>
                        <a:pt x="0" y="84"/>
                      </a:moveTo>
                      <a:cubicBezTo>
                        <a:pt x="89" y="73"/>
                        <a:pt x="292" y="0"/>
                        <a:pt x="292" y="128"/>
                      </a:cubicBez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1" name="Text Box 53"/>
          <p:cNvSpPr/>
          <p:nvPr/>
        </p:nvSpPr>
        <p:spPr>
          <a:xfrm>
            <a:off x="1523880" y="15228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t together the Butterf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58"/>
          <p:cNvGrpSpPr/>
          <p:nvPr/>
        </p:nvGrpSpPr>
        <p:grpSpPr>
          <a:xfrm>
            <a:off x="7924680" y="1523880"/>
            <a:ext cx="914400" cy="609480"/>
            <a:chOff x="7924680" y="1523880"/>
            <a:chExt cx="914400" cy="609480"/>
          </a:xfrm>
        </p:grpSpPr>
        <p:grpSp>
          <p:nvGrpSpPr>
            <p:cNvPr id="73" name="Group 33"/>
            <p:cNvGrpSpPr/>
            <p:nvPr/>
          </p:nvGrpSpPr>
          <p:grpSpPr>
            <a:xfrm>
              <a:off x="7924680" y="1523880"/>
              <a:ext cx="533520" cy="609480"/>
              <a:chOff x="7924680" y="1523880"/>
              <a:chExt cx="533520" cy="609480"/>
            </a:xfrm>
          </p:grpSpPr>
          <p:sp>
            <p:nvSpPr>
              <p:cNvPr id="74" name="Oval 4"/>
              <p:cNvSpPr/>
              <p:nvPr/>
            </p:nvSpPr>
            <p:spPr>
              <a:xfrm>
                <a:off x="7924680" y="1523880"/>
                <a:ext cx="533520" cy="609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Oval 32"/>
              <p:cNvSpPr/>
              <p:nvPr/>
            </p:nvSpPr>
            <p:spPr>
              <a:xfrm>
                <a:off x="8048520" y="1599840"/>
                <a:ext cx="152280" cy="152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Text Box 54"/>
            <p:cNvSpPr/>
            <p:nvPr/>
          </p:nvSpPr>
          <p:spPr>
            <a:xfrm>
              <a:off x="7924680" y="182880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hea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59"/>
          <p:cNvGrpSpPr/>
          <p:nvPr/>
        </p:nvGrpSpPr>
        <p:grpSpPr>
          <a:xfrm>
            <a:off x="7620120" y="3429000"/>
            <a:ext cx="990360" cy="914400"/>
            <a:chOff x="7620120" y="3429000"/>
            <a:chExt cx="990360" cy="914400"/>
          </a:xfrm>
        </p:grpSpPr>
        <p:sp>
          <p:nvSpPr>
            <p:cNvPr id="78" name="Oval 5"/>
            <p:cNvSpPr/>
            <p:nvPr/>
          </p:nvSpPr>
          <p:spPr>
            <a:xfrm>
              <a:off x="7620120" y="3429000"/>
              <a:ext cx="761760" cy="914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55"/>
            <p:cNvSpPr/>
            <p:nvPr/>
          </p:nvSpPr>
          <p:spPr>
            <a:xfrm>
              <a:off x="7696080" y="380988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ora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57"/>
          <p:cNvGrpSpPr/>
          <p:nvPr/>
        </p:nvGrpSpPr>
        <p:grpSpPr>
          <a:xfrm>
            <a:off x="304920" y="1219320"/>
            <a:ext cx="914400" cy="1523880"/>
            <a:chOff x="304920" y="1219320"/>
            <a:chExt cx="914400" cy="1523880"/>
          </a:xfrm>
        </p:grpSpPr>
        <p:grpSp>
          <p:nvGrpSpPr>
            <p:cNvPr id="81" name="Group 39"/>
            <p:cNvGrpSpPr/>
            <p:nvPr/>
          </p:nvGrpSpPr>
          <p:grpSpPr>
            <a:xfrm>
              <a:off x="400320" y="1219320"/>
              <a:ext cx="609480" cy="1523880"/>
              <a:chOff x="400320" y="1219320"/>
              <a:chExt cx="609480" cy="1523880"/>
            </a:xfrm>
          </p:grpSpPr>
          <p:sp>
            <p:nvSpPr>
              <p:cNvPr id="82" name="Oval 6"/>
              <p:cNvSpPr/>
              <p:nvPr/>
            </p:nvSpPr>
            <p:spPr>
              <a:xfrm>
                <a:off x="400320" y="1219320"/>
                <a:ext cx="609480" cy="1523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Line 34"/>
              <p:cNvSpPr/>
              <p:nvPr/>
            </p:nvSpPr>
            <p:spPr>
              <a:xfrm>
                <a:off x="414360" y="1600200"/>
                <a:ext cx="533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Line 35"/>
              <p:cNvSpPr/>
              <p:nvPr/>
            </p:nvSpPr>
            <p:spPr>
              <a:xfrm>
                <a:off x="400320" y="1828800"/>
                <a:ext cx="609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Line 36"/>
              <p:cNvSpPr/>
              <p:nvPr/>
            </p:nvSpPr>
            <p:spPr>
              <a:xfrm>
                <a:off x="400320" y="2057400"/>
                <a:ext cx="609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Line 37"/>
              <p:cNvSpPr/>
              <p:nvPr/>
            </p:nvSpPr>
            <p:spPr>
              <a:xfrm>
                <a:off x="476280" y="2514600"/>
                <a:ext cx="456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38"/>
              <p:cNvSpPr/>
              <p:nvPr/>
            </p:nvSpPr>
            <p:spPr>
              <a:xfrm>
                <a:off x="400320" y="2286000"/>
                <a:ext cx="609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Text Box 56"/>
            <p:cNvSpPr/>
            <p:nvPr/>
          </p:nvSpPr>
          <p:spPr>
            <a:xfrm>
              <a:off x="304920" y="182880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bdom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71"/>
          <p:cNvGrpSpPr/>
          <p:nvPr/>
        </p:nvGrpSpPr>
        <p:grpSpPr>
          <a:xfrm>
            <a:off x="228600" y="3509640"/>
            <a:ext cx="2643840" cy="2129040"/>
            <a:chOff x="228600" y="3509640"/>
            <a:chExt cx="2643840" cy="2129040"/>
          </a:xfrm>
        </p:grpSpPr>
        <p:grpSp>
          <p:nvGrpSpPr>
            <p:cNvPr id="90" name="Group 28"/>
            <p:cNvGrpSpPr/>
            <p:nvPr/>
          </p:nvGrpSpPr>
          <p:grpSpPr>
            <a:xfrm>
              <a:off x="228600" y="3509640"/>
              <a:ext cx="2643840" cy="2129040"/>
              <a:chOff x="228600" y="3509640"/>
              <a:chExt cx="2643840" cy="2129040"/>
            </a:xfrm>
          </p:grpSpPr>
          <p:sp>
            <p:nvSpPr>
              <p:cNvPr id="91" name="Freeform 24"/>
              <p:cNvSpPr/>
              <p:nvPr/>
            </p:nvSpPr>
            <p:spPr>
              <a:xfrm rot="200400">
                <a:off x="304200" y="3580920"/>
                <a:ext cx="2514600" cy="1905120"/>
              </a:xfrm>
              <a:custGeom>
                <a:avLst/>
                <a:gdLst>
                  <a:gd name="textAreaLeft" fmla="*/ 0 w 2514600"/>
                  <a:gd name="textAreaRight" fmla="*/ 2514960 w 2514600"/>
                  <a:gd name="textAreaTop" fmla="*/ 0 h 1905120"/>
                  <a:gd name="textAreaBottom" fmla="*/ 1905480 h 1905120"/>
                </a:gdLst>
                <a:ahLst/>
                <a:rect l="textAreaLeft" t="textAreaTop" r="textAreaRight" b="textAreaBottom"/>
                <a:pathLst>
                  <a:path w="1584" h="1200">
                    <a:moveTo>
                      <a:pt x="1488" y="768"/>
                    </a:moveTo>
                    <a:lnTo>
                      <a:pt x="1584" y="480"/>
                    </a:lnTo>
                    <a:lnTo>
                      <a:pt x="720" y="0"/>
                    </a:lnTo>
                    <a:lnTo>
                      <a:pt x="240" y="48"/>
                    </a:lnTo>
                    <a:lnTo>
                      <a:pt x="48" y="288"/>
                    </a:lnTo>
                    <a:lnTo>
                      <a:pt x="0" y="816"/>
                    </a:lnTo>
                    <a:lnTo>
                      <a:pt x="240" y="1104"/>
                    </a:lnTo>
                    <a:lnTo>
                      <a:pt x="624" y="1200"/>
                    </a:lnTo>
                    <a:lnTo>
                      <a:pt x="1488" y="768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26"/>
              <p:cNvSpPr/>
              <p:nvPr/>
            </p:nvSpPr>
            <p:spPr>
              <a:xfrm>
                <a:off x="228600" y="3733920"/>
                <a:ext cx="2590560" cy="1904760"/>
              </a:xfrm>
              <a:custGeom>
                <a:avLst/>
                <a:gdLst>
                  <a:gd name="textAreaLeft" fmla="*/ 0 w 2590560"/>
                  <a:gd name="textAreaRight" fmla="*/ 2590920 w 2590560"/>
                  <a:gd name="textAreaTop" fmla="*/ 0 h 1904760"/>
                  <a:gd name="textAreaBottom" fmla="*/ 1905120 h 1904760"/>
                </a:gdLst>
                <a:ahLst/>
                <a:rect l="textAreaLeft" t="textAreaTop" r="textAreaRight" b="textAreaBottom"/>
                <a:pathLst>
                  <a:path w="1584" h="1200">
                    <a:moveTo>
                      <a:pt x="1488" y="768"/>
                    </a:moveTo>
                    <a:lnTo>
                      <a:pt x="1584" y="480"/>
                    </a:lnTo>
                    <a:lnTo>
                      <a:pt x="720" y="0"/>
                    </a:lnTo>
                    <a:lnTo>
                      <a:pt x="240" y="48"/>
                    </a:lnTo>
                    <a:lnTo>
                      <a:pt x="48" y="288"/>
                    </a:lnTo>
                    <a:lnTo>
                      <a:pt x="0" y="816"/>
                    </a:lnTo>
                    <a:lnTo>
                      <a:pt x="240" y="1104"/>
                    </a:lnTo>
                    <a:lnTo>
                      <a:pt x="624" y="1200"/>
                    </a:lnTo>
                    <a:lnTo>
                      <a:pt x="1488" y="768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Text Box 60"/>
            <p:cNvSpPr/>
            <p:nvPr/>
          </p:nvSpPr>
          <p:spPr>
            <a:xfrm>
              <a:off x="761760" y="457200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 w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72"/>
          <p:cNvGrpSpPr/>
          <p:nvPr/>
        </p:nvGrpSpPr>
        <p:grpSpPr>
          <a:xfrm>
            <a:off x="6934320" y="4572000"/>
            <a:ext cx="1752480" cy="2057400"/>
            <a:chOff x="6934320" y="4572000"/>
            <a:chExt cx="1752480" cy="2057400"/>
          </a:xfrm>
        </p:grpSpPr>
        <p:grpSp>
          <p:nvGrpSpPr>
            <p:cNvPr id="95" name="Group 31"/>
            <p:cNvGrpSpPr/>
            <p:nvPr/>
          </p:nvGrpSpPr>
          <p:grpSpPr>
            <a:xfrm>
              <a:off x="6934320" y="4572000"/>
              <a:ext cx="1752480" cy="2057400"/>
              <a:chOff x="6934320" y="4572000"/>
              <a:chExt cx="1752480" cy="2057400"/>
            </a:xfrm>
          </p:grpSpPr>
          <p:sp>
            <p:nvSpPr>
              <p:cNvPr id="96" name="Freeform 25"/>
              <p:cNvSpPr/>
              <p:nvPr/>
            </p:nvSpPr>
            <p:spPr>
              <a:xfrm>
                <a:off x="6934320" y="4647960"/>
                <a:ext cx="1676520" cy="1981440"/>
              </a:xfrm>
              <a:custGeom>
                <a:avLst/>
                <a:gdLst>
                  <a:gd name="textAreaLeft" fmla="*/ 0 w 1676520"/>
                  <a:gd name="textAreaRight" fmla="*/ 1676880 w 1676520"/>
                  <a:gd name="textAreaTop" fmla="*/ 0 h 1981440"/>
                  <a:gd name="textAreaBottom" fmla="*/ 1981800 h 1981440"/>
                </a:gdLst>
                <a:ahLst/>
                <a:rect l="textAreaLeft" t="textAreaTop" r="textAreaRight" b="textAreaBottom"/>
                <a:pathLst>
                  <a:path w="1056" h="1248">
                    <a:moveTo>
                      <a:pt x="960" y="0"/>
                    </a:moveTo>
                    <a:lnTo>
                      <a:pt x="48" y="432"/>
                    </a:lnTo>
                    <a:lnTo>
                      <a:pt x="0" y="720"/>
                    </a:lnTo>
                    <a:lnTo>
                      <a:pt x="96" y="1152"/>
                    </a:lnTo>
                    <a:lnTo>
                      <a:pt x="480" y="1248"/>
                    </a:lnTo>
                    <a:lnTo>
                      <a:pt x="960" y="960"/>
                    </a:lnTo>
                    <a:lnTo>
                      <a:pt x="1056" y="144"/>
                    </a:lnTo>
                    <a:lnTo>
                      <a:pt x="960" y="0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27"/>
              <p:cNvSpPr/>
              <p:nvPr/>
            </p:nvSpPr>
            <p:spPr>
              <a:xfrm>
                <a:off x="7010640" y="4572000"/>
                <a:ext cx="1676160" cy="1981080"/>
              </a:xfrm>
              <a:custGeom>
                <a:avLst/>
                <a:gdLst>
                  <a:gd name="textAreaLeft" fmla="*/ 0 w 1676160"/>
                  <a:gd name="textAreaRight" fmla="*/ 1676520 w 1676160"/>
                  <a:gd name="textAreaTop" fmla="*/ 0 h 1981080"/>
                  <a:gd name="textAreaBottom" fmla="*/ 1981440 h 1981080"/>
                </a:gdLst>
                <a:ahLst/>
                <a:rect l="textAreaLeft" t="textAreaTop" r="textAreaRight" b="textAreaBottom"/>
                <a:pathLst>
                  <a:path w="1056" h="1248">
                    <a:moveTo>
                      <a:pt x="960" y="0"/>
                    </a:moveTo>
                    <a:lnTo>
                      <a:pt x="48" y="432"/>
                    </a:lnTo>
                    <a:lnTo>
                      <a:pt x="0" y="720"/>
                    </a:lnTo>
                    <a:lnTo>
                      <a:pt x="96" y="1152"/>
                    </a:lnTo>
                    <a:lnTo>
                      <a:pt x="480" y="1248"/>
                    </a:lnTo>
                    <a:lnTo>
                      <a:pt x="960" y="960"/>
                    </a:lnTo>
                    <a:lnTo>
                      <a:pt x="1056" y="144"/>
                    </a:lnTo>
                    <a:lnTo>
                      <a:pt x="960" y="0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Text Box 61"/>
            <p:cNvSpPr/>
            <p:nvPr/>
          </p:nvSpPr>
          <p:spPr>
            <a:xfrm>
              <a:off x="7315200" y="563868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ind w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65"/>
          <p:cNvGrpSpPr/>
          <p:nvPr/>
        </p:nvGrpSpPr>
        <p:grpSpPr>
          <a:xfrm>
            <a:off x="3733920" y="5791320"/>
            <a:ext cx="2057400" cy="723960"/>
            <a:chOff x="3733920" y="5791320"/>
            <a:chExt cx="2057400" cy="723960"/>
          </a:xfrm>
        </p:grpSpPr>
        <p:grpSp>
          <p:nvGrpSpPr>
            <p:cNvPr id="100" name="Group 62"/>
            <p:cNvGrpSpPr/>
            <p:nvPr/>
          </p:nvGrpSpPr>
          <p:grpSpPr>
            <a:xfrm>
              <a:off x="3733920" y="5837400"/>
              <a:ext cx="1022400" cy="677880"/>
              <a:chOff x="3733920" y="5837400"/>
              <a:chExt cx="1022400" cy="677880"/>
            </a:xfrm>
          </p:grpSpPr>
          <p:grpSp>
            <p:nvGrpSpPr>
              <p:cNvPr id="101" name="Group 16"/>
              <p:cNvGrpSpPr/>
              <p:nvPr/>
            </p:nvGrpSpPr>
            <p:grpSpPr>
              <a:xfrm>
                <a:off x="3733920" y="5837400"/>
                <a:ext cx="797040" cy="677880"/>
                <a:chOff x="3733920" y="5837400"/>
                <a:chExt cx="797040" cy="677880"/>
              </a:xfrm>
            </p:grpSpPr>
            <p:sp>
              <p:nvSpPr>
                <p:cNvPr id="102" name="Freeform 13"/>
                <p:cNvSpPr/>
                <p:nvPr/>
              </p:nvSpPr>
              <p:spPr>
                <a:xfrm>
                  <a:off x="3733920" y="5869080"/>
                  <a:ext cx="746280" cy="646200"/>
                </a:xfrm>
                <a:custGeom>
                  <a:avLst/>
                  <a:gdLst>
                    <a:gd name="textAreaLeft" fmla="*/ 0 w 746280"/>
                    <a:gd name="textAreaRight" fmla="*/ 746640 w 746280"/>
                    <a:gd name="textAreaTop" fmla="*/ 0 h 646200"/>
                    <a:gd name="textAreaBottom" fmla="*/ 646560 h 646200"/>
                  </a:gdLst>
                  <a:ahLst/>
                  <a:rect l="textAreaLeft" t="textAreaTop" r="textAreaRight" b="textAreaBottom"/>
                  <a:pathLst>
                    <a:path w="470" h="407">
                      <a:moveTo>
                        <a:pt x="0" y="407"/>
                      </a:moveTo>
                      <a:cubicBezTo>
                        <a:pt x="6" y="342"/>
                        <a:pt x="12" y="277"/>
                        <a:pt x="18" y="212"/>
                      </a:cubicBezTo>
                      <a:cubicBezTo>
                        <a:pt x="20" y="185"/>
                        <a:pt x="82" y="155"/>
                        <a:pt x="89" y="150"/>
                      </a:cubicBezTo>
                      <a:cubicBezTo>
                        <a:pt x="143" y="114"/>
                        <a:pt x="195" y="89"/>
                        <a:pt x="257" y="71"/>
                      </a:cubicBezTo>
                      <a:cubicBezTo>
                        <a:pt x="294" y="46"/>
                        <a:pt x="345" y="25"/>
                        <a:pt x="390" y="17"/>
                      </a:cubicBezTo>
                      <a:cubicBezTo>
                        <a:pt x="408" y="14"/>
                        <a:pt x="425" y="12"/>
                        <a:pt x="443" y="8"/>
                      </a:cubicBezTo>
                      <a:cubicBezTo>
                        <a:pt x="452" y="6"/>
                        <a:pt x="470" y="0"/>
                        <a:pt x="470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Oval 14"/>
                <p:cNvSpPr/>
                <p:nvPr/>
              </p:nvSpPr>
              <p:spPr>
                <a:xfrm>
                  <a:off x="4378680" y="5837400"/>
                  <a:ext cx="15228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" name="Group 17"/>
              <p:cNvGrpSpPr/>
              <p:nvPr/>
            </p:nvGrpSpPr>
            <p:grpSpPr>
              <a:xfrm>
                <a:off x="3857760" y="6060960"/>
                <a:ext cx="898560" cy="426960"/>
                <a:chOff x="3857760" y="6060960"/>
                <a:chExt cx="898560" cy="426960"/>
              </a:xfrm>
            </p:grpSpPr>
            <p:sp>
              <p:nvSpPr>
                <p:cNvPr id="105" name="Freeform 12"/>
                <p:cNvSpPr/>
                <p:nvPr/>
              </p:nvSpPr>
              <p:spPr>
                <a:xfrm>
                  <a:off x="3857760" y="6092640"/>
                  <a:ext cx="801720" cy="39528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395280"/>
                    <a:gd name="textAreaBottom" fmla="*/ 395640 h 395280"/>
                  </a:gdLst>
                  <a:ahLst/>
                  <a:rect l="textAreaLeft" t="textAreaTop" r="textAreaRight" b="textAreaBottom"/>
                  <a:pathLst>
                    <a:path w="505" h="249">
                      <a:moveTo>
                        <a:pt x="0" y="249"/>
                      </a:moveTo>
                      <a:cubicBezTo>
                        <a:pt x="32" y="199"/>
                        <a:pt x="76" y="175"/>
                        <a:pt x="124" y="142"/>
                      </a:cubicBezTo>
                      <a:cubicBezTo>
                        <a:pt x="191" y="96"/>
                        <a:pt x="259" y="62"/>
                        <a:pt x="336" y="36"/>
                      </a:cubicBezTo>
                      <a:cubicBezTo>
                        <a:pt x="365" y="26"/>
                        <a:pt x="395" y="14"/>
                        <a:pt x="425" y="9"/>
                      </a:cubicBezTo>
                      <a:cubicBezTo>
                        <a:pt x="452" y="5"/>
                        <a:pt x="505" y="0"/>
                        <a:pt x="505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Oval 15"/>
                <p:cNvSpPr/>
                <p:nvPr/>
              </p:nvSpPr>
              <p:spPr>
                <a:xfrm>
                  <a:off x="4603680" y="6060960"/>
                  <a:ext cx="15264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7" name="Text Box 63"/>
            <p:cNvSpPr/>
            <p:nvPr/>
          </p:nvSpPr>
          <p:spPr>
            <a:xfrm>
              <a:off x="4496040" y="5791320"/>
              <a:ext cx="1295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ten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67"/>
          <p:cNvGrpSpPr/>
          <p:nvPr/>
        </p:nvGrpSpPr>
        <p:grpSpPr>
          <a:xfrm>
            <a:off x="7315200" y="2743200"/>
            <a:ext cx="1295280" cy="515880"/>
            <a:chOff x="7315200" y="2743200"/>
            <a:chExt cx="1295280" cy="515880"/>
          </a:xfrm>
        </p:grpSpPr>
        <p:sp>
          <p:nvSpPr>
            <p:cNvPr id="109" name="Freeform 41"/>
            <p:cNvSpPr/>
            <p:nvPr/>
          </p:nvSpPr>
          <p:spPr>
            <a:xfrm>
              <a:off x="7315200" y="2971800"/>
              <a:ext cx="469800" cy="287280"/>
            </a:xfrm>
            <a:custGeom>
              <a:avLst/>
              <a:gdLst>
                <a:gd name="textAreaLeft" fmla="*/ 0 w 469800"/>
                <a:gd name="textAreaRight" fmla="*/ 470160 w 4698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96" h="181">
                  <a:moveTo>
                    <a:pt x="0" y="89"/>
                  </a:moveTo>
                  <a:cubicBezTo>
                    <a:pt x="22" y="56"/>
                    <a:pt x="34" y="56"/>
                    <a:pt x="71" y="45"/>
                  </a:cubicBezTo>
                  <a:cubicBezTo>
                    <a:pt x="112" y="17"/>
                    <a:pt x="87" y="30"/>
                    <a:pt x="150" y="9"/>
                  </a:cubicBezTo>
                  <a:cubicBezTo>
                    <a:pt x="159" y="6"/>
                    <a:pt x="177" y="0"/>
                    <a:pt x="177" y="0"/>
                  </a:cubicBezTo>
                  <a:cubicBezTo>
                    <a:pt x="201" y="3"/>
                    <a:pt x="226" y="0"/>
                    <a:pt x="248" y="9"/>
                  </a:cubicBezTo>
                  <a:cubicBezTo>
                    <a:pt x="296" y="28"/>
                    <a:pt x="279" y="145"/>
                    <a:pt x="230" y="178"/>
                  </a:cubicBezTo>
                  <a:cubicBezTo>
                    <a:pt x="154" y="170"/>
                    <a:pt x="135" y="181"/>
                    <a:pt x="97" y="124"/>
                  </a:cubicBezTo>
                  <a:cubicBezTo>
                    <a:pt x="114" y="58"/>
                    <a:pt x="136" y="80"/>
                    <a:pt x="204" y="89"/>
                  </a:cubicBezTo>
                  <a:cubicBezTo>
                    <a:pt x="201" y="104"/>
                    <a:pt x="208" y="125"/>
                    <a:pt x="195" y="133"/>
                  </a:cubicBezTo>
                  <a:cubicBezTo>
                    <a:pt x="182" y="141"/>
                    <a:pt x="159" y="137"/>
                    <a:pt x="150" y="124"/>
                  </a:cubicBezTo>
                  <a:cubicBezTo>
                    <a:pt x="144" y="115"/>
                    <a:pt x="177" y="107"/>
                    <a:pt x="177" y="10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66"/>
            <p:cNvSpPr/>
            <p:nvPr/>
          </p:nvSpPr>
          <p:spPr>
            <a:xfrm>
              <a:off x="7619760" y="2743200"/>
              <a:ext cx="99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boscis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70"/>
          <p:cNvGrpSpPr/>
          <p:nvPr/>
        </p:nvGrpSpPr>
        <p:grpSpPr>
          <a:xfrm>
            <a:off x="1295280" y="5867280"/>
            <a:ext cx="1371600" cy="703440"/>
            <a:chOff x="1295280" y="5867280"/>
            <a:chExt cx="1371600" cy="703440"/>
          </a:xfrm>
        </p:grpSpPr>
        <p:grpSp>
          <p:nvGrpSpPr>
            <p:cNvPr id="112" name="Group 68"/>
            <p:cNvGrpSpPr/>
            <p:nvPr/>
          </p:nvGrpSpPr>
          <p:grpSpPr>
            <a:xfrm>
              <a:off x="1295280" y="5867280"/>
              <a:ext cx="572760" cy="703440"/>
              <a:chOff x="1295280" y="5867280"/>
              <a:chExt cx="572760" cy="703440"/>
            </a:xfrm>
          </p:grpSpPr>
          <p:grpSp>
            <p:nvGrpSpPr>
              <p:cNvPr id="113" name="Group 50"/>
              <p:cNvGrpSpPr/>
              <p:nvPr/>
            </p:nvGrpSpPr>
            <p:grpSpPr>
              <a:xfrm>
                <a:off x="1333440" y="5867280"/>
                <a:ext cx="494640" cy="261720"/>
                <a:chOff x="1333440" y="5867280"/>
                <a:chExt cx="494640" cy="261720"/>
              </a:xfrm>
            </p:grpSpPr>
            <p:sp>
              <p:nvSpPr>
                <p:cNvPr id="114" name="Freeform 44"/>
                <p:cNvSpPr/>
                <p:nvPr/>
              </p:nvSpPr>
              <p:spPr>
                <a:xfrm>
                  <a:off x="1364760" y="5867280"/>
                  <a:ext cx="463320" cy="203040"/>
                </a:xfrm>
                <a:custGeom>
                  <a:avLst/>
                  <a:gdLst>
                    <a:gd name="textAreaLeft" fmla="*/ 0 w 463320"/>
                    <a:gd name="textAreaRight" fmla="*/ 463680 w 463320"/>
                    <a:gd name="textAreaTop" fmla="*/ 0 h 203040"/>
                    <a:gd name="textAreaBottom" fmla="*/ 203400 h 203040"/>
                  </a:gdLst>
                  <a:ahLst/>
                  <a:rect l="textAreaLeft" t="textAreaTop" r="textAreaRight" b="textAreaBottom"/>
                  <a:pathLst>
                    <a:path w="292" h="128">
                      <a:moveTo>
                        <a:pt x="0" y="84"/>
                      </a:moveTo>
                      <a:cubicBezTo>
                        <a:pt x="89" y="73"/>
                        <a:pt x="292" y="0"/>
                        <a:pt x="292" y="1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Freeform 45"/>
                <p:cNvSpPr/>
                <p:nvPr/>
              </p:nvSpPr>
              <p:spPr>
                <a:xfrm>
                  <a:off x="1333440" y="5925960"/>
                  <a:ext cx="463320" cy="203040"/>
                </a:xfrm>
                <a:custGeom>
                  <a:avLst/>
                  <a:gdLst>
                    <a:gd name="textAreaLeft" fmla="*/ 0 w 463320"/>
                    <a:gd name="textAreaRight" fmla="*/ 463680 w 463320"/>
                    <a:gd name="textAreaTop" fmla="*/ 0 h 203040"/>
                    <a:gd name="textAreaBottom" fmla="*/ 203400 h 203040"/>
                  </a:gdLst>
                  <a:ahLst/>
                  <a:rect l="textAreaLeft" t="textAreaTop" r="textAreaRight" b="textAreaBottom"/>
                  <a:pathLst>
                    <a:path w="292" h="128">
                      <a:moveTo>
                        <a:pt x="0" y="84"/>
                      </a:moveTo>
                      <a:cubicBezTo>
                        <a:pt x="89" y="73"/>
                        <a:pt x="292" y="0"/>
                        <a:pt x="292" y="1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Group 51"/>
              <p:cNvGrpSpPr/>
              <p:nvPr/>
            </p:nvGrpSpPr>
            <p:grpSpPr>
              <a:xfrm>
                <a:off x="1328400" y="6081480"/>
                <a:ext cx="539640" cy="253800"/>
                <a:chOff x="1328400" y="6081480"/>
                <a:chExt cx="539640" cy="253800"/>
              </a:xfrm>
            </p:grpSpPr>
            <p:sp>
              <p:nvSpPr>
                <p:cNvPr id="117" name="Freeform 46"/>
                <p:cNvSpPr/>
                <p:nvPr/>
              </p:nvSpPr>
              <p:spPr>
                <a:xfrm>
                  <a:off x="1404720" y="6081480"/>
                  <a:ext cx="463320" cy="203040"/>
                </a:xfrm>
                <a:custGeom>
                  <a:avLst/>
                  <a:gdLst>
                    <a:gd name="textAreaLeft" fmla="*/ 0 w 463320"/>
                    <a:gd name="textAreaRight" fmla="*/ 463680 w 463320"/>
                    <a:gd name="textAreaTop" fmla="*/ 0 h 203040"/>
                    <a:gd name="textAreaBottom" fmla="*/ 203400 h 203040"/>
                  </a:gdLst>
                  <a:ahLst/>
                  <a:rect l="textAreaLeft" t="textAreaTop" r="textAreaRight" b="textAreaBottom"/>
                  <a:pathLst>
                    <a:path w="292" h="128">
                      <a:moveTo>
                        <a:pt x="0" y="84"/>
                      </a:moveTo>
                      <a:cubicBezTo>
                        <a:pt x="89" y="73"/>
                        <a:pt x="292" y="0"/>
                        <a:pt x="292" y="1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Freeform 47"/>
                <p:cNvSpPr/>
                <p:nvPr/>
              </p:nvSpPr>
              <p:spPr>
                <a:xfrm>
                  <a:off x="1328400" y="6132240"/>
                  <a:ext cx="463680" cy="203040"/>
                </a:xfrm>
                <a:custGeom>
                  <a:avLst/>
                  <a:gdLst>
                    <a:gd name="textAreaLeft" fmla="*/ 0 w 463680"/>
                    <a:gd name="textAreaRight" fmla="*/ 464040 w 463680"/>
                    <a:gd name="textAreaTop" fmla="*/ 0 h 203040"/>
                    <a:gd name="textAreaBottom" fmla="*/ 203400 h 203040"/>
                  </a:gdLst>
                  <a:ahLst/>
                  <a:rect l="textAreaLeft" t="textAreaTop" r="textAreaRight" b="textAreaBottom"/>
                  <a:pathLst>
                    <a:path w="292" h="128">
                      <a:moveTo>
                        <a:pt x="0" y="84"/>
                      </a:moveTo>
                      <a:cubicBezTo>
                        <a:pt x="89" y="73"/>
                        <a:pt x="292" y="0"/>
                        <a:pt x="292" y="1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" name="Group 52"/>
              <p:cNvGrpSpPr/>
              <p:nvPr/>
            </p:nvGrpSpPr>
            <p:grpSpPr>
              <a:xfrm>
                <a:off x="1295280" y="6310080"/>
                <a:ext cx="539640" cy="260640"/>
                <a:chOff x="1295280" y="6310080"/>
                <a:chExt cx="539640" cy="260640"/>
              </a:xfrm>
            </p:grpSpPr>
            <p:sp>
              <p:nvSpPr>
                <p:cNvPr id="120" name="Freeform 48"/>
                <p:cNvSpPr/>
                <p:nvPr/>
              </p:nvSpPr>
              <p:spPr>
                <a:xfrm>
                  <a:off x="1371240" y="6310080"/>
                  <a:ext cx="463680" cy="203400"/>
                </a:xfrm>
                <a:custGeom>
                  <a:avLst/>
                  <a:gdLst>
                    <a:gd name="textAreaLeft" fmla="*/ 0 w 463680"/>
                    <a:gd name="textAreaRight" fmla="*/ 464040 w 463680"/>
                    <a:gd name="textAreaTop" fmla="*/ 0 h 203400"/>
                    <a:gd name="textAreaBottom" fmla="*/ 203760 h 203400"/>
                  </a:gdLst>
                  <a:ahLst/>
                  <a:rect l="textAreaLeft" t="textAreaTop" r="textAreaRight" b="textAreaBottom"/>
                  <a:pathLst>
                    <a:path w="292" h="128">
                      <a:moveTo>
                        <a:pt x="0" y="84"/>
                      </a:moveTo>
                      <a:cubicBezTo>
                        <a:pt x="89" y="73"/>
                        <a:pt x="292" y="0"/>
                        <a:pt x="292" y="1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9"/>
                <p:cNvSpPr/>
                <p:nvPr/>
              </p:nvSpPr>
              <p:spPr>
                <a:xfrm>
                  <a:off x="1295280" y="6367320"/>
                  <a:ext cx="463320" cy="203400"/>
                </a:xfrm>
                <a:custGeom>
                  <a:avLst/>
                  <a:gdLst>
                    <a:gd name="textAreaLeft" fmla="*/ 0 w 463320"/>
                    <a:gd name="textAreaRight" fmla="*/ 463680 w 463320"/>
                    <a:gd name="textAreaTop" fmla="*/ 0 h 203400"/>
                    <a:gd name="textAreaBottom" fmla="*/ 203760 h 203400"/>
                  </a:gdLst>
                  <a:ahLst/>
                  <a:rect l="textAreaLeft" t="textAreaTop" r="textAreaRight" b="textAreaBottom"/>
                  <a:pathLst>
                    <a:path w="292" h="128">
                      <a:moveTo>
                        <a:pt x="0" y="84"/>
                      </a:moveTo>
                      <a:cubicBezTo>
                        <a:pt x="89" y="73"/>
                        <a:pt x="292" y="0"/>
                        <a:pt x="292" y="1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" name="Text Box 69"/>
            <p:cNvSpPr/>
            <p:nvPr/>
          </p:nvSpPr>
          <p:spPr>
            <a:xfrm>
              <a:off x="1828800" y="5943600"/>
              <a:ext cx="83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eg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14:53:25Z</dcterms:created>
  <dc:creator> </dc:creator>
  <dc:description/>
  <dc:language>en-US</dc:language>
  <cp:lastModifiedBy>sdawson</cp:lastModifiedBy>
  <dcterms:modified xsi:type="dcterms:W3CDTF">2011-11-09T16:23:30Z</dcterms:modified>
  <cp:revision>6</cp:revision>
  <dc:subject/>
  <dc:title>Slide 1</dc:title>
</cp:coreProperties>
</file>